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lick.wav" ContentType="audio/x-wav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8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6A2-27A2-4FFC-8A03-C45AF8A5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F07-3A4B-4F2C-A404-1FAF92AE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BD7F1-F81C-4EA1-8EBF-BBA0E5A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40F83-5FFC-429E-84EB-A6A18322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F0DE2-8151-465C-8827-91FE42F7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0EB36-6328-4DAE-84B5-09153410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01E5C-99B8-4611-A2BC-DA3F11AD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C6CF0-31FC-484F-A720-E45023CB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BA21D-FCA5-4401-9D3C-E0E57700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86CBE-0DD8-4C06-B0B5-48E21AE3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3DE92-1FFB-4132-8ACE-3466C680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C7F27-6921-49D2-B90E-95EED185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71B-D8E5-4228-AB39-FBFC14DB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D38DA-610F-4148-AD15-D0A53B36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61EC6-D22F-4EE2-AEF8-1D2F545B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1C1F5-1726-4C07-9495-C24DCD14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D988D-1A11-429D-9D1E-E42ED5A0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A15D7-509B-41C3-ACBA-0574BA2E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48E4A-3235-4800-A2BD-B4E5FCE8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30834-8EEB-499D-9EAF-EA05FA74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895BF-8B69-49A9-A9A7-92789B40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AD922-86C6-461E-BAFC-97E9192D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EEE89-D2FB-4402-A2E7-6CCE52DD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C3E-5FEA-4F17-A0DB-D8484A8B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40A61-FE19-40B9-9A04-0C805896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FF622-5B00-4290-99AB-00C36E68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2FC49-864E-4FA1-B25D-D0A42697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F51DF-0B91-477F-8AED-491A243C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BE25A-38F0-443E-A25D-B5DCC4BC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B90B9-D17F-4566-AF6D-92A4294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A72B8-7C85-4B42-B0A3-91F9A8AD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7D339-077D-4962-8451-0738C6F6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5C6E0-41A9-4426-BD56-9604304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0FE2F-CED1-48B7-A54F-2FB6A1AD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8F66-C052-41AF-8F7B-7EEB852C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9C007-11C4-4B7A-A4E6-B174349C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9877F-CA51-4234-86A8-A5F9DFE5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EFC90-0119-45F0-BF22-91583628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19B61-B7DE-4DC3-B4A2-45C2C6AC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08A49-5896-4BE1-B9AF-DA1C66D8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219A8-EBEA-4732-A790-99135C3E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185DC-493F-4091-9265-0F84E8E8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EDED4-3553-4D76-B92A-0E2AD497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E4396-B7C5-4441-A8F3-7D826098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C4DEE-CB0E-49BA-B67E-3FD1CFD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83AF-388E-4B62-A540-60F0552B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6BAA1-39DA-4DDF-8CF5-B0E34100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46841-701F-4BB1-B49D-D6BBE791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C22B7-F027-4747-85D2-D4599C34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11089-319A-4216-9BFC-117A7300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938D6-6524-429D-B2A9-4817D7D2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6CFA-83CD-4742-9DB6-087F7018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5BB9-93ED-46F6-A554-4625FD03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C612-69C0-4EE5-9E24-DEF2CE3B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5DE7-A982-4715-BF79-E6472787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C5C0-D037-491A-83A0-A8E4A0A7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48B-5F05-40A8-AF59-02242619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E043-FD32-45D8-AE2F-7BD031F4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B475-9460-4A73-BD15-CA1BEAE6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86A3-1FCA-43ED-98CE-0081CC39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BCCF-0C27-4F5B-9DD2-25F10B41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19E5-0AE7-42DC-A702-F95260AD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6E2DC-C8B5-4555-AD4F-EAE81E36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7517-400B-4880-8BCF-16D1E39E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137B-0370-426C-906A-CAFF783A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F891-F525-4294-8569-09527930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BCA2-2E64-48C0-ADCB-4CC634D3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ABA-9EA5-47F5-864F-949DC989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A8E4-BFB5-4F5A-A229-448C8FF6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27B3-BF61-462A-9F8F-B0B9EF3C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AF072-CA2C-4F89-8917-1049A41F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063C1-D2EE-4CC0-9A47-FC1FB00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0816-6AA5-40A8-85E3-B62C1030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82C3-698A-4FA4-BC0F-E23ECDA4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CFAF-96FC-48EC-88C4-0D6F486B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22BE0-BC69-4E72-81A6-2A813476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7F150-59EC-43BC-8A61-F77A13CE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494D-98A7-437E-BA60-1CFD7A07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012-2126-428F-B5DB-BFAA08B1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52A7-70A3-438D-8D2A-F0E8AFC5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E7BEA-93C0-4508-A152-D7A6E566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21A4-A3BB-427F-826F-872B90C1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75B6-99BD-4E87-979E-9B145353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D9771-4ED9-4E59-BC02-BC24132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4B5D-C14A-4755-BD34-7D39D992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34A4-BD54-4BDD-A5ED-25FD5BA8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2641-B006-489A-92C9-36568BAE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80EAA-1E68-4AB7-A6AD-52A8EC0F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6444-00B0-4644-8865-268164BF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D7B-BF41-4991-A1BB-66F83D21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26935-0D2E-4666-B477-A16F1F35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26389-12A7-4C4A-8E94-EE2F97EC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16807-5CEB-4800-8583-D9EA62D0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DE063-D646-49B1-8AC4-90FE3EE9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E4FD8-DA9E-4A2F-82A4-5C185FFF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42BD-C859-4A37-91C2-1E992858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DA8F3-BFE8-4814-937A-60D5B273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696CF-999F-4B1F-8A85-842AC857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9B7F-9336-4CA9-843D-4FC5F891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66A79-A85C-4FFA-8108-2BC1E9C0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10F-134B-40E7-8507-B25D0B3C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B64A-EAE4-4C92-A8A7-7C4CE686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B5432-D97D-458C-B7E9-47B94058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EBC89-07CD-41B2-8E7B-75EADEBC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4988A-8FFA-45E2-BEF9-109EC3C0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1BF0D-1D2E-4DCB-BBF1-75D62C7C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1F6C4-9B22-438B-A639-13436271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64A25-D0E2-44F2-A1EB-F9D63ADF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CEB8F-E912-403C-AA0F-1F5F82BF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3D5E7-46ED-428A-BC26-A7A349F8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C5680-3C84-40AB-8267-0B4DC2A2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8F6-0AEE-42FA-885F-30F6FDFE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8570E-71C7-4288-81C0-C5F37104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A3C31-2938-43DA-A44D-D62FA04D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53BD1-DE25-444E-9FEB-ECA6A77D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8DC87-AD08-447D-A60B-D7723F8F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99B4A-059C-4FAF-9119-9A41F291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741F5-DCCC-45F4-8E2A-9219109E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AA93A-079F-4FE6-BBB3-B0A3A4BE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E34F3-DA59-4848-8F4F-9C1A72F0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99964-478D-469A-830A-181A117A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CC4F-B5AC-43E8-A953-79A21236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4A4-9F5F-4D08-BD02-575E8148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A0F7F-D644-4AD0-BB35-919E2428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17156-50A0-4773-9649-8F3B2F9A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D8948-B4F2-4233-A6E8-75984F65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BE662-9537-4459-AD6C-918C8370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C2F8C-31DE-4172-8EC4-887CD186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C11A4-6071-43F1-B461-4E042970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A5A65-1D1B-4CA3-B3D1-673DEC7F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0883E-D34C-41D3-9EBB-4FB9CE95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61BE7-98E5-49EA-8C64-1AF26CDE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CC1A0-A81E-46F6-8DC7-A84D26E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CBD-42EA-457B-92D1-BB5B655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13081-DE4F-4111-B883-8EF4EA87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88ABA-750D-4F95-AC75-9044380A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529EF-12E1-4655-86F2-C7F6F6D5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D6732-EF33-4F07-88C9-FC1BA175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67541-7901-48F1-A9CE-B44A609D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19B85-BF4C-4F8E-9595-FDFC8F5C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18DE6-DD23-4757-A4C3-9CEF8180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20F8A-015A-4CBD-B44A-7C1DACE8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0672E-C726-49BA-B616-634A65B1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E2B56-4BC9-4EDD-B06B-C3742BCB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48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48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48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48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48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48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48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2FC4-8C39-4AA7-A264-8784FBA6FFA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6C40-153B-4B07-98B4-FC67423216D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AB28-A2B3-4BDE-A406-8B30C65A7BB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CA35-5722-4A55-BF5D-1F9B4060795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58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58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58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58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58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58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58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BBAC-2242-4D31-B51F-E0CCB1A9408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AA25-5E99-41D1-923C-F273EECE3FE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79E8-C22D-4459-B813-8D672E45B59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DB3B-F73C-478E-8CB0-5C45F0484A2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9FF8-E12C-4F7A-BFAE-B00CAE17304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B0E5-636F-4490-9E0B-8CAA92F01AD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C60A-34D7-4BBB-98E6-673C79630CB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23A1-3075-4E31-9EA4-D977F264F98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&#26085;&#26376;&#26126;&#29983;&#23383;.exe" TargetMode="External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403280" y="2060640"/>
            <a:ext cx="720108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今天我们要学一首有趣的小诗，这首诗会教我们认很多字呢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16"/>
          <p:cNvGrpSpPr/>
          <p:nvPr/>
        </p:nvGrpSpPr>
        <p:grpSpPr>
          <a:xfrm>
            <a:off x="612720" y="1698480"/>
            <a:ext cx="2376360" cy="1874880"/>
            <a:chOff x="612720" y="1698480"/>
            <a:chExt cx="2376360" cy="1874880"/>
          </a:xfrm>
        </p:grpSpPr>
        <p:sp>
          <p:nvSpPr>
            <p:cNvPr id="541" name="Rectangle 14"/>
            <p:cNvSpPr/>
            <p:nvPr/>
          </p:nvSpPr>
          <p:spPr>
            <a:xfrm>
              <a:off x="612720" y="1698480"/>
              <a:ext cx="2374920" cy="187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542" name="Picture 2" descr="日"/>
            <p:cNvPicPr/>
            <p:nvPr/>
          </p:nvPicPr>
          <p:blipFill>
            <a:blip r:embed="rId1">
              <a:lum contrast="48000"/>
            </a:blip>
            <a:srcRect l="17715" t="19648" r="26956" b="37485"/>
            <a:stretch/>
          </p:blipFill>
          <p:spPr>
            <a:xfrm>
              <a:off x="612720" y="1916280"/>
              <a:ext cx="122400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3" descr="月"/>
            <p:cNvPicPr/>
            <p:nvPr/>
          </p:nvPicPr>
          <p:blipFill>
            <a:blip r:embed="rId2">
              <a:lum contrast="48000"/>
            </a:blip>
            <a:srcRect l="30174" t="15655" r="28137" b="35331"/>
            <a:stretch/>
          </p:blipFill>
          <p:spPr>
            <a:xfrm>
              <a:off x="1849320" y="1700280"/>
              <a:ext cx="1139760" cy="15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Group 17"/>
          <p:cNvGrpSpPr/>
          <p:nvPr/>
        </p:nvGrpSpPr>
        <p:grpSpPr>
          <a:xfrm>
            <a:off x="6084720" y="1773360"/>
            <a:ext cx="2770200" cy="1800000"/>
            <a:chOff x="6084720" y="1773360"/>
            <a:chExt cx="2770200" cy="1800000"/>
          </a:xfrm>
        </p:grpSpPr>
        <p:sp>
          <p:nvSpPr>
            <p:cNvPr id="545" name="Rectangle 15"/>
            <p:cNvSpPr/>
            <p:nvPr/>
          </p:nvSpPr>
          <p:spPr>
            <a:xfrm>
              <a:off x="6086160" y="1773360"/>
              <a:ext cx="273528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546" name="Picture 6" descr="u=3444966378,534402797&amp;gp=2"/>
            <p:cNvPicPr/>
            <p:nvPr/>
          </p:nvPicPr>
          <p:blipFill>
            <a:blip r:embed="rId3">
              <a:lum contrast="30000"/>
            </a:blip>
            <a:stretch/>
          </p:blipFill>
          <p:spPr>
            <a:xfrm>
              <a:off x="6084720" y="2276640"/>
              <a:ext cx="1368360" cy="8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7" descr="wy"/>
            <p:cNvPicPr/>
            <p:nvPr/>
          </p:nvPicPr>
          <p:blipFill>
            <a:blip r:embed="rId4">
              <a:lum contrast="30000"/>
            </a:blip>
            <a:stretch/>
          </p:blipFill>
          <p:spPr>
            <a:xfrm>
              <a:off x="7453080" y="1773360"/>
              <a:ext cx="1401840" cy="15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8" name="Picture 10" descr=""/>
          <p:cNvPicPr/>
          <p:nvPr/>
        </p:nvPicPr>
        <p:blipFill>
          <a:blip r:embed="rId5">
            <a:lum contrast="18000"/>
          </a:blip>
          <a:srcRect l="0" t="24110" r="0" b="0"/>
          <a:stretch/>
        </p:blipFill>
        <p:spPr>
          <a:xfrm>
            <a:off x="3349800" y="1773360"/>
            <a:ext cx="2519280" cy="18288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3"/>
          <p:cNvSpPr/>
          <p:nvPr/>
        </p:nvSpPr>
        <p:spPr>
          <a:xfrm>
            <a:off x="1222200" y="3860640"/>
            <a:ext cx="7021800" cy="33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míng         miè          xi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ǎ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明    灭    鲜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40000" y="1413000"/>
            <a:ext cx="4578480" cy="31399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4583520" y="4869000"/>
            <a:ext cx="851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林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40000" y="907920"/>
            <a:ext cx="4824360" cy="3646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4"/>
          <p:cNvSpPr/>
          <p:nvPr/>
        </p:nvSpPr>
        <p:spPr>
          <a:xfrm>
            <a:off x="4275720" y="4822920"/>
            <a:ext cx="851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森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836640"/>
            <a:ext cx="5327640" cy="35910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4"/>
          <p:cNvSpPr/>
          <p:nvPr/>
        </p:nvSpPr>
        <p:spPr>
          <a:xfrm>
            <a:off x="4294800" y="4791240"/>
            <a:ext cx="851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男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43280" y="692280"/>
            <a:ext cx="3720960" cy="373356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4"/>
          <p:cNvSpPr/>
          <p:nvPr/>
        </p:nvSpPr>
        <p:spPr>
          <a:xfrm>
            <a:off x="4347000" y="46069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尘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458040" y="1268280"/>
            <a:ext cx="2217600" cy="3251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2421000"/>
            <a:ext cx="1616040" cy="20876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4512240" y="4862520"/>
            <a:ext cx="851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休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1321E-006 L 0.33281 0.00533 E">
                                      <p:cBhvr>
                                        <p:cTn id="20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05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258920" y="2708280"/>
            <a:ext cx="73454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　　照上面例子说说“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尖、看、从、众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”几个字有什么特点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WordArt 6"/>
          <p:cNvSpPr txBox="1"/>
          <p:nvPr/>
        </p:nvSpPr>
        <p:spPr>
          <a:xfrm>
            <a:off x="3276720" y="836640"/>
            <a:ext cx="316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087229"/>
                  </a:outerShdw>
                </a:effectLst>
                <a:uFillTx/>
                <a:latin typeface="楷体_GB2312"/>
              </a:rPr>
              <a:t>讨论交流</a:t>
            </a:r>
            <a:endParaRPr b="1" i="1" lang="en-US" sz="2400" spc="1" strike="noStrike" u="sng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087229"/>
                </a:outerShdw>
              </a:effectLst>
              <a:uFillTx/>
              <a:latin typeface="楷体_GB2312"/>
              <a:ea typeface="楷体_GB2312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2"/>
          <p:cNvSpPr/>
          <p:nvPr/>
        </p:nvSpPr>
        <p:spPr>
          <a:xfrm>
            <a:off x="2658600" y="2658960"/>
            <a:ext cx="4429800" cy="351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笔尖　　鲜花　　尘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森林　　明天　　灭火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手心　　竹林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WordArt 14"/>
          <p:cNvSpPr txBox="1"/>
          <p:nvPr/>
        </p:nvSpPr>
        <p:spPr>
          <a:xfrm>
            <a:off x="3635280" y="1052640"/>
            <a:ext cx="2571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087229"/>
                  </a:outerShdw>
                </a:effectLst>
                <a:uFillTx/>
                <a:latin typeface="楷体_GB2312"/>
              </a:rPr>
              <a:t>读一读</a:t>
            </a:r>
            <a:endParaRPr b="1" i="1" lang="en-US" sz="2400" spc="1" strike="noStrike" u="sng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087229"/>
                </a:outerShdw>
              </a:effectLst>
              <a:uFillTx/>
              <a:latin typeface="楷体_GB2312"/>
              <a:ea typeface="楷体_GB2312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33">
            <a:hlinkClick r:id="rId1"/>
          </p:cNvPr>
          <p:cNvSpPr/>
          <p:nvPr/>
        </p:nvSpPr>
        <p:spPr>
          <a:xfrm>
            <a:off x="4427640" y="5013360"/>
            <a:ext cx="1295280" cy="64764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788" y="1400"/>
                </a:lnTo>
                <a:lnTo>
                  <a:pt x="1400" y="140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788" y="20200"/>
                </a:lnTo>
                <a:lnTo>
                  <a:pt x="41788" y="140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8" y="2020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8" h="21600">
                <a:moveTo>
                  <a:pt x="14588" y="7301"/>
                </a:moveTo>
                <a:lnTo>
                  <a:pt x="15501" y="7301"/>
                </a:lnTo>
                <a:lnTo>
                  <a:pt x="15884" y="7667"/>
                </a:lnTo>
                <a:lnTo>
                  <a:pt x="25093" y="7667"/>
                </a:lnTo>
                <a:lnTo>
                  <a:pt x="25650" y="8224"/>
                </a:lnTo>
                <a:lnTo>
                  <a:pt x="25650" y="8772"/>
                </a:lnTo>
                <a:lnTo>
                  <a:pt x="27495" y="8772"/>
                </a:lnTo>
                <a:lnTo>
                  <a:pt x="27861" y="8224"/>
                </a:lnTo>
                <a:lnTo>
                  <a:pt x="28600" y="8224"/>
                </a:lnTo>
                <a:lnTo>
                  <a:pt x="28600" y="13376"/>
                </a:lnTo>
                <a:lnTo>
                  <a:pt x="27861" y="13376"/>
                </a:lnTo>
                <a:lnTo>
                  <a:pt x="27495" y="12828"/>
                </a:lnTo>
                <a:lnTo>
                  <a:pt x="25650" y="12828"/>
                </a:lnTo>
                <a:lnTo>
                  <a:pt x="25650" y="14107"/>
                </a:lnTo>
                <a:lnTo>
                  <a:pt x="16067" y="14107"/>
                </a:lnTo>
                <a:lnTo>
                  <a:pt x="16067" y="9877"/>
                </a:lnTo>
                <a:lnTo>
                  <a:pt x="15884" y="9877"/>
                </a:lnTo>
                <a:lnTo>
                  <a:pt x="15501" y="10243"/>
                </a:lnTo>
                <a:lnTo>
                  <a:pt x="14588" y="10243"/>
                </a:lnTo>
                <a:close/>
              </a:path>
            </a:pathLst>
          </a:custGeom>
          <a:solidFill>
            <a:srgbClr val="ccccff">
              <a:alpha val="46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Text Box 35"/>
          <p:cNvSpPr/>
          <p:nvPr/>
        </p:nvSpPr>
        <p:spPr>
          <a:xfrm>
            <a:off x="4525920" y="5729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87229"/>
                </a:solidFill>
                <a:uFillTx/>
                <a:latin typeface="Arial"/>
                <a:ea typeface="楷体_GB2312"/>
              </a:rPr>
              <a:t>动画演示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5" name="Group 68"/>
          <p:cNvGrpSpPr/>
          <p:nvPr/>
        </p:nvGrpSpPr>
        <p:grpSpPr>
          <a:xfrm>
            <a:off x="2916360" y="2744640"/>
            <a:ext cx="3673440" cy="1258920"/>
            <a:chOff x="2916360" y="2744640"/>
            <a:chExt cx="3673440" cy="1258920"/>
          </a:xfrm>
        </p:grpSpPr>
        <p:grpSp>
          <p:nvGrpSpPr>
            <p:cNvPr id="576" name="Group 36"/>
            <p:cNvGrpSpPr/>
            <p:nvPr/>
          </p:nvGrpSpPr>
          <p:grpSpPr>
            <a:xfrm>
              <a:off x="2917800" y="2779560"/>
              <a:ext cx="1224000" cy="1224000"/>
              <a:chOff x="2917800" y="2779560"/>
              <a:chExt cx="1224000" cy="1224000"/>
            </a:xfrm>
          </p:grpSpPr>
          <p:sp>
            <p:nvSpPr>
              <p:cNvPr id="577" name="Rectangle 37"/>
              <p:cNvSpPr/>
              <p:nvPr/>
            </p:nvSpPr>
            <p:spPr>
              <a:xfrm>
                <a:off x="2917800" y="277956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8" name="Line 38"/>
              <p:cNvSpPr/>
              <p:nvPr/>
            </p:nvSpPr>
            <p:spPr>
              <a:xfrm flipH="1">
                <a:off x="2917800" y="339156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9" name="Line 39"/>
              <p:cNvSpPr/>
              <p:nvPr/>
            </p:nvSpPr>
            <p:spPr>
              <a:xfrm>
                <a:off x="3530160" y="280980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80" name="Group 40"/>
            <p:cNvGrpSpPr/>
            <p:nvPr/>
          </p:nvGrpSpPr>
          <p:grpSpPr>
            <a:xfrm>
              <a:off x="4141800" y="2779560"/>
              <a:ext cx="1224000" cy="1224000"/>
              <a:chOff x="4141800" y="2779560"/>
              <a:chExt cx="1224000" cy="1224000"/>
            </a:xfrm>
          </p:grpSpPr>
          <p:sp>
            <p:nvSpPr>
              <p:cNvPr id="581" name="Rectangle 41"/>
              <p:cNvSpPr/>
              <p:nvPr/>
            </p:nvSpPr>
            <p:spPr>
              <a:xfrm>
                <a:off x="4141800" y="277956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2" name="Line 42"/>
              <p:cNvSpPr/>
              <p:nvPr/>
            </p:nvSpPr>
            <p:spPr>
              <a:xfrm flipH="1">
                <a:off x="4141800" y="339156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3" name="Line 43"/>
              <p:cNvSpPr/>
              <p:nvPr/>
            </p:nvSpPr>
            <p:spPr>
              <a:xfrm>
                <a:off x="4754160" y="280980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84" name="Group 46"/>
            <p:cNvGrpSpPr/>
            <p:nvPr/>
          </p:nvGrpSpPr>
          <p:grpSpPr>
            <a:xfrm>
              <a:off x="5365800" y="2779560"/>
              <a:ext cx="1224000" cy="1224000"/>
              <a:chOff x="5365800" y="2779560"/>
              <a:chExt cx="1224000" cy="1224000"/>
            </a:xfrm>
          </p:grpSpPr>
          <p:sp>
            <p:nvSpPr>
              <p:cNvPr id="585" name="Rectangle 47"/>
              <p:cNvSpPr/>
              <p:nvPr/>
            </p:nvSpPr>
            <p:spPr>
              <a:xfrm>
                <a:off x="5365800" y="277956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6" name="Line 48"/>
              <p:cNvSpPr/>
              <p:nvPr/>
            </p:nvSpPr>
            <p:spPr>
              <a:xfrm flipH="1">
                <a:off x="5365800" y="339156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7" name="Line 49"/>
              <p:cNvSpPr/>
              <p:nvPr/>
            </p:nvSpPr>
            <p:spPr>
              <a:xfrm>
                <a:off x="5978160" y="280980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88" name="Text Box 54"/>
            <p:cNvSpPr/>
            <p:nvPr/>
          </p:nvSpPr>
          <p:spPr>
            <a:xfrm>
              <a:off x="2916360" y="2744640"/>
              <a:ext cx="367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7200" spc="-1" strike="noStrike" u="sng">
                  <a:solidFill>
                    <a:srgbClr val="ff3300"/>
                  </a:solidFill>
                  <a:uFillTx/>
                  <a:latin typeface="Arial"/>
                  <a:ea typeface="楷体_GB2312"/>
                </a:rPr>
                <a:t>力手水</a:t>
              </a:r>
              <a:endParaRPr b="0" i="1" lang="en-US" sz="7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9" name="WordArt 67"/>
          <p:cNvSpPr txBox="1"/>
          <p:nvPr/>
        </p:nvSpPr>
        <p:spPr>
          <a:xfrm>
            <a:off x="3708360" y="765000"/>
            <a:ext cx="2373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87229">
                      <a:alpha val="80000"/>
                    </a:srgbClr>
                  </a:outerShdw>
                </a:effectLst>
                <a:uFillTx/>
                <a:latin typeface="楷体_GB2312"/>
              </a:rPr>
              <a:t>会写的字</a:t>
            </a:r>
            <a:endParaRPr b="1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87229">
                    <a:alpha val="80000"/>
                  </a:srgbClr>
                </a:outerShdw>
              </a:effectLst>
              <a:uFillTx/>
              <a:latin typeface="楷体_GB2312"/>
              <a:ea typeface="楷体_GB2312"/>
            </a:endParaRPr>
          </a:p>
        </p:txBody>
      </p:sp>
      <p:sp>
        <p:nvSpPr>
          <p:cNvPr id="590" name="Text Box 69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10"/>
          <p:cNvGrpSpPr/>
          <p:nvPr/>
        </p:nvGrpSpPr>
        <p:grpSpPr>
          <a:xfrm>
            <a:off x="2810880" y="2182680"/>
            <a:ext cx="3898080" cy="4486320"/>
            <a:chOff x="2810880" y="2182680"/>
            <a:chExt cx="3898080" cy="4486320"/>
          </a:xfrm>
        </p:grpSpPr>
        <p:sp>
          <p:nvSpPr>
            <p:cNvPr id="592" name="AutoShape 7"/>
            <p:cNvSpPr/>
            <p:nvPr/>
          </p:nvSpPr>
          <p:spPr>
            <a:xfrm>
              <a:off x="3995640" y="3500280"/>
              <a:ext cx="1081080" cy="1008360"/>
            </a:xfrm>
            <a:prstGeom prst="pentagon">
              <a:avLst/>
            </a:prstGeom>
            <a:solidFill>
              <a:srgbClr val="ccffff"/>
            </a:solidFill>
            <a:ln w="9360">
              <a:solidFill>
                <a:srgbClr val="087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3" name="AutoShape 8"/>
            <p:cNvSpPr/>
            <p:nvPr/>
          </p:nvSpPr>
          <p:spPr>
            <a:xfrm>
              <a:off x="3995640" y="4581360"/>
              <a:ext cx="1081080" cy="1008360"/>
            </a:xfrm>
            <a:prstGeom prst="pentagon">
              <a:avLst/>
            </a:prstGeom>
            <a:solidFill>
              <a:srgbClr val="ccffff"/>
            </a:solidFill>
            <a:ln w="9360">
              <a:solidFill>
                <a:srgbClr val="087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4" name="AutoShape 9"/>
            <p:cNvSpPr/>
            <p:nvPr/>
          </p:nvSpPr>
          <p:spPr>
            <a:xfrm>
              <a:off x="3995640" y="5661000"/>
              <a:ext cx="1081080" cy="1008000"/>
            </a:xfrm>
            <a:prstGeom prst="pentagon">
              <a:avLst/>
            </a:prstGeom>
            <a:solidFill>
              <a:srgbClr val="ccffff"/>
            </a:solidFill>
            <a:ln w="9360">
              <a:solidFill>
                <a:srgbClr val="087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AutoShape 6"/>
            <p:cNvSpPr/>
            <p:nvPr/>
          </p:nvSpPr>
          <p:spPr>
            <a:xfrm>
              <a:off x="3995640" y="2421000"/>
              <a:ext cx="1081080" cy="1008000"/>
            </a:xfrm>
            <a:prstGeom prst="pentagon">
              <a:avLst/>
            </a:prstGeom>
            <a:solidFill>
              <a:srgbClr val="ccffff"/>
            </a:solidFill>
            <a:ln w="9360">
              <a:solidFill>
                <a:srgbClr val="087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Text Box 5"/>
            <p:cNvSpPr/>
            <p:nvPr/>
          </p:nvSpPr>
          <p:spPr>
            <a:xfrm>
              <a:off x="2810880" y="2182680"/>
              <a:ext cx="3898080" cy="448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不　正　</a:t>
              </a:r>
              <a:r>
                <a:rPr b="0" i="1" lang="zh-CN" sz="4800" spc="-1" strike="noStrike" u="sng">
                  <a:solidFill>
                    <a:srgbClr val="ff3300"/>
                  </a:solidFill>
                  <a:uFillTx/>
                  <a:latin typeface="Arial"/>
                  <a:ea typeface="楷体_GB2312"/>
                </a:rPr>
                <a:t>歪</a:t>
              </a: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　</a:t>
              </a: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歪歪扭扭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日　光　</a:t>
              </a:r>
              <a:r>
                <a:rPr b="0" i="1" lang="zh-CN" sz="4800" spc="-1" strike="noStrike" u="sng">
                  <a:solidFill>
                    <a:srgbClr val="ff3300"/>
                  </a:solidFill>
                  <a:uFillTx/>
                  <a:latin typeface="Arial"/>
                  <a:ea typeface="楷体_GB2312"/>
                </a:rPr>
                <a:t>晃</a:t>
              </a: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　</a:t>
              </a: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晃眼睛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三　口　</a:t>
              </a:r>
              <a:r>
                <a:rPr b="0" i="1" lang="zh-CN" sz="4800" spc="-1" strike="noStrike" u="sng">
                  <a:solidFill>
                    <a:srgbClr val="ff3300"/>
                  </a:solidFill>
                  <a:uFillTx/>
                  <a:latin typeface="Arial"/>
                  <a:ea typeface="楷体_GB2312"/>
                </a:rPr>
                <a:t>品</a:t>
              </a: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　</a:t>
              </a: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品茶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三　日　</a:t>
              </a:r>
              <a:r>
                <a:rPr b="0" i="1" lang="zh-CN" sz="4800" spc="-1" strike="noStrike" u="sng">
                  <a:solidFill>
                    <a:srgbClr val="ff3300"/>
                  </a:solidFill>
                  <a:uFillTx/>
                  <a:latin typeface="Arial"/>
                  <a:ea typeface="楷体_GB2312"/>
                </a:rPr>
                <a:t>晶</a:t>
              </a: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　</a:t>
              </a: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亮晶晶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7" name="WordArt 11"/>
          <p:cNvSpPr txBox="1"/>
          <p:nvPr/>
        </p:nvSpPr>
        <p:spPr>
          <a:xfrm>
            <a:off x="3419640" y="1001880"/>
            <a:ext cx="28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uFillTx/>
                <a:latin typeface="楷体_GB2312"/>
              </a:rPr>
              <a:t>读读想想</a:t>
            </a:r>
            <a:endParaRPr b="1" i="1" lang="en-US" sz="2400" spc="1" strike="noStrike" u="sng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uFillTx/>
              <a:latin typeface="楷体_GB2312"/>
              <a:ea typeface="楷体_GB2312"/>
            </a:endParaRPr>
          </a:p>
        </p:txBody>
      </p:sp>
      <p:sp>
        <p:nvSpPr>
          <p:cNvPr id="598" name="Text Box 12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3026520" y="2565360"/>
            <a:ext cx="2855520" cy="18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7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11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"/>
          <p:cNvSpPr/>
          <p:nvPr/>
        </p:nvSpPr>
        <p:spPr>
          <a:xfrm>
            <a:off x="902520" y="1125360"/>
            <a:ext cx="63792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4024440" y="363600"/>
            <a:ext cx="2619360" cy="61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日月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明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日月明，鱼羊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鲜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小土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尘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小大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尖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一火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灭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田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力男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人木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休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手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目看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二木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林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三木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森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二人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从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三人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众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Text Box 35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9"/>
          <p:cNvSpPr/>
          <p:nvPr/>
        </p:nvSpPr>
        <p:spPr>
          <a:xfrm>
            <a:off x="971640" y="2598840"/>
            <a:ext cx="7921440" cy="423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míng  xi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ǎ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  chén   ji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ā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    miè      lì      n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明   鲜   尘   尖   灭   力   男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xi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ū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sh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ǒ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u    lín     s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ē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  cóng  zhò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休   手   林   森   从   众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WordArt 10"/>
          <p:cNvSpPr txBox="1"/>
          <p:nvPr/>
        </p:nvSpPr>
        <p:spPr>
          <a:xfrm>
            <a:off x="3276720" y="1146240"/>
            <a:ext cx="287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uFillTx/>
                <a:latin typeface="楷体_GB2312"/>
              </a:rPr>
              <a:t>会认的字</a:t>
            </a:r>
            <a:endParaRPr b="1" i="1" lang="en-US" sz="2400" spc="1" strike="noStrike" u="sng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uFillTx/>
              <a:latin typeface="楷体_GB2312"/>
              <a:ea typeface="楷体_GB2312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5"/>
          <p:cNvSpPr/>
          <p:nvPr/>
        </p:nvSpPr>
        <p:spPr>
          <a:xfrm>
            <a:off x="1547640" y="2349360"/>
            <a:ext cx="7056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　　看图认字，说说这些字有什么特点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6948360" y="0"/>
            <a:ext cx="2195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14"/>
          <p:cNvGrpSpPr/>
          <p:nvPr/>
        </p:nvGrpSpPr>
        <p:grpSpPr>
          <a:xfrm>
            <a:off x="1187280" y="2924280"/>
            <a:ext cx="7632720" cy="1946160"/>
            <a:chOff x="1187280" y="2924280"/>
            <a:chExt cx="7632720" cy="1946160"/>
          </a:xfrm>
        </p:grpSpPr>
        <p:sp>
          <p:nvSpPr>
            <p:cNvPr id="519" name="Rectangle 13"/>
            <p:cNvSpPr/>
            <p:nvPr/>
          </p:nvSpPr>
          <p:spPr>
            <a:xfrm>
              <a:off x="1187280" y="2925720"/>
              <a:ext cx="7632720" cy="19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520" name="Picture 2" descr="日"/>
            <p:cNvPicPr/>
            <p:nvPr/>
          </p:nvPicPr>
          <p:blipFill>
            <a:blip r:embed="rId1">
              <a:lum contrast="24000"/>
            </a:blip>
            <a:srcRect l="4232" t="3504" r="4145" b="4894"/>
            <a:stretch/>
          </p:blipFill>
          <p:spPr>
            <a:xfrm>
              <a:off x="1260360" y="2995560"/>
              <a:ext cx="1511280" cy="18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3" descr="月"/>
            <p:cNvPicPr/>
            <p:nvPr/>
          </p:nvPicPr>
          <p:blipFill>
            <a:blip r:embed="rId2">
              <a:lum contrast="24000"/>
            </a:blip>
            <a:srcRect l="4222" t="3745" r="8474" b="7665"/>
            <a:stretch/>
          </p:blipFill>
          <p:spPr>
            <a:xfrm>
              <a:off x="2735280" y="2924280"/>
              <a:ext cx="162072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4" descr="火"/>
            <p:cNvPicPr/>
            <p:nvPr/>
          </p:nvPicPr>
          <p:blipFill>
            <a:blip r:embed="rId3">
              <a:lum contrast="24000"/>
            </a:blip>
            <a:srcRect l="4341" t="3591" r="4036" b="3924"/>
            <a:stretch/>
          </p:blipFill>
          <p:spPr>
            <a:xfrm>
              <a:off x="4284720" y="3068640"/>
              <a:ext cx="151128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5" descr="木"/>
            <p:cNvPicPr/>
            <p:nvPr/>
          </p:nvPicPr>
          <p:blipFill>
            <a:blip r:embed="rId4">
              <a:lum contrast="30000"/>
            </a:blip>
            <a:srcRect l="4428" t="6919" r="3949" b="2388"/>
            <a:stretch/>
          </p:blipFill>
          <p:spPr>
            <a:xfrm>
              <a:off x="5797440" y="2997360"/>
              <a:ext cx="151128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6" descr="羊"/>
            <p:cNvPicPr/>
            <p:nvPr/>
          </p:nvPicPr>
          <p:blipFill>
            <a:blip r:embed="rId5">
              <a:lum contrast="24000"/>
            </a:blip>
            <a:srcRect l="4232" t="3364" r="4036" b="3680"/>
            <a:stretch/>
          </p:blipFill>
          <p:spPr>
            <a:xfrm>
              <a:off x="7307280" y="3068640"/>
              <a:ext cx="151272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Text Box 15"/>
          <p:cNvSpPr/>
          <p:nvPr/>
        </p:nvSpPr>
        <p:spPr>
          <a:xfrm>
            <a:off x="1476360" y="5073480"/>
            <a:ext cx="7056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日 月 山 木 羊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WordArt 17"/>
          <p:cNvSpPr txBox="1"/>
          <p:nvPr/>
        </p:nvSpPr>
        <p:spPr>
          <a:xfrm>
            <a:off x="3419640" y="765000"/>
            <a:ext cx="278748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87229">
                      <a:alpha val="80000"/>
                    </a:srgbClr>
                  </a:outerShdw>
                </a:effectLst>
                <a:uFillTx/>
                <a:latin typeface="楷体_GB2312"/>
              </a:rPr>
              <a:t>象形字</a:t>
            </a:r>
            <a:endParaRPr b="1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87229">
                    <a:alpha val="80000"/>
                  </a:srgbClr>
                </a:outerShdw>
              </a:effectLst>
              <a:uFillTx/>
              <a:latin typeface="楷体_GB2312"/>
              <a:ea typeface="楷体_GB2312"/>
            </a:endParaRPr>
          </a:p>
        </p:txBody>
      </p:sp>
      <p:sp>
        <p:nvSpPr>
          <p:cNvPr id="527" name="Text Box 18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日"/>
          <p:cNvPicPr/>
          <p:nvPr/>
        </p:nvPicPr>
        <p:blipFill>
          <a:blip r:embed="rId1">
            <a:lum contrast="48000"/>
          </a:blip>
          <a:srcRect l="17715" t="19648" r="26956" b="37485"/>
          <a:stretch/>
        </p:blipFill>
        <p:spPr>
          <a:xfrm>
            <a:off x="611280" y="1916280"/>
            <a:ext cx="1800000" cy="1728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月"/>
          <p:cNvPicPr/>
          <p:nvPr/>
        </p:nvPicPr>
        <p:blipFill>
          <a:blip r:embed="rId2">
            <a:lum contrast="36000"/>
          </a:blip>
          <a:srcRect l="30174" t="15655" r="28137" b="35331"/>
          <a:stretch/>
        </p:blipFill>
        <p:spPr>
          <a:xfrm>
            <a:off x="7451640" y="1844640"/>
            <a:ext cx="1295640" cy="18003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7"/>
          <p:cNvSpPr/>
          <p:nvPr/>
        </p:nvSpPr>
        <p:spPr>
          <a:xfrm>
            <a:off x="4367880" y="4437000"/>
            <a:ext cx="851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明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4276E-006 L 0.27951 0.00024 E">
                                      <p:cBhvr>
                                        <p:cTn id="72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75087E-006 L -0.28333 0.00533 E">
                                      <p:cBhvr>
                                        <p:cTn id="74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03280" y="981000"/>
            <a:ext cx="3354480" cy="48625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"/>
          <p:cNvPicPr/>
          <p:nvPr/>
        </p:nvPicPr>
        <p:blipFill>
          <a:blip r:embed="rId2">
            <a:lum contrast="30000"/>
          </a:blip>
          <a:srcRect l="0" t="24110" r="0" b="0"/>
          <a:stretch/>
        </p:blipFill>
        <p:spPr>
          <a:xfrm>
            <a:off x="5003640" y="981000"/>
            <a:ext cx="3238560" cy="2494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7"/>
          <p:cNvSpPr/>
          <p:nvPr/>
        </p:nvSpPr>
        <p:spPr>
          <a:xfrm>
            <a:off x="5940360" y="4292640"/>
            <a:ext cx="13161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灭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u=3444966378,534402797&amp;gp=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4360" y="3860640"/>
            <a:ext cx="2087280" cy="12258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wy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988320" y="3284640"/>
            <a:ext cx="2120760" cy="23349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6"/>
          <p:cNvSpPr/>
          <p:nvPr/>
        </p:nvSpPr>
        <p:spPr>
          <a:xfrm>
            <a:off x="4223160" y="1197000"/>
            <a:ext cx="851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鲜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983720" y="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日月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35574E-006 L 0.22448 -0.00533 E">
                                      <p:cBhvr>
                                        <p:cTn id="116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07407E-006 L -0.23056 -0.00208 E">
                                      <p:cBhvr>
                                        <p:cTn id="11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万润仪器贸易公司</cp:lastModifiedBy>
  <dcterms:modified xsi:type="dcterms:W3CDTF">2020-08-24T01:54:0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